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2CF-D977-486E-9002-B7853388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051-DF18-461D-814A-A8F39871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1B1-2083-4045-8974-6598A2D3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EFA-2388-4F38-BD16-C91F8F9D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E82-ED57-472E-B788-F2AA6F6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3F5-1C74-423F-B658-DB91FF38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C2F-132E-4BB8-974B-B3ABF247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9F5-8943-44EA-91E6-EBF1BFD0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694-7420-4351-A74E-E10D9B9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68C-C173-44AF-975B-E5A0BB8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EA8-357D-4D1E-A1AD-56D376B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B83-9898-42C6-89F1-2F59191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5AB8-397D-4F77-84A3-3DF1993DB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GLOBALIZZ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72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-2818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438280"/>
            <a:ext cx="3124080" cy="1447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281000">
            <a:off x="304560" y="1904760"/>
            <a:ext cx="2895480" cy="914400"/>
          </a:xfrm>
          <a:prstGeom prst="rightArrow">
            <a:avLst>
              <a:gd name="adj1" fmla="val 50000"/>
              <a:gd name="adj2" fmla="val 7916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glioramento dei traspo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901400">
            <a:off x="990720" y="3885840"/>
            <a:ext cx="2466720" cy="1176480"/>
          </a:xfrm>
          <a:prstGeom prst="rightArrow">
            <a:avLst>
              <a:gd name="adj1" fmla="val 50000"/>
              <a:gd name="adj2" fmla="val 524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lior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 mezzi di  comunic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6400" y="3813120"/>
            <a:ext cx="1536120" cy="14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03848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4419360" y="18284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33526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5029200"/>
            <a:ext cx="152388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duzione dista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410080"/>
            <a:ext cx="1218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li di vi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895480"/>
            <a:ext cx="1447920" cy="1600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60600">
            <a:off x="2819160" y="533520"/>
            <a:ext cx="2057400" cy="1295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ol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685800"/>
            <a:ext cx="1523880" cy="121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migrazion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t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cultur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7:07:23Z</dcterms:created>
  <dc:creator>studente</dc:creator>
  <dc:description/>
  <dc:language>en-US</dc:language>
  <cp:lastModifiedBy>s</cp:lastModifiedBy>
  <dcterms:modified xsi:type="dcterms:W3CDTF">2017-02-13T09:07:26Z</dcterms:modified>
  <cp:revision>6</cp:revision>
  <dc:subject/>
  <dc:title>Presentazione di PowerPoint</dc:title>
</cp:coreProperties>
</file>